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89E-2430-4010-9CF9-1FEE210F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ABA-2C85-46B5-909C-23DBE48A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254-7D1A-4639-B2D7-3EC0AA1E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009-D67A-4653-A98D-F95EE821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6945-15AE-4676-938F-B88D7166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BB4E-E46F-42AC-A8FF-7CC7082F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5537-1A5C-4117-A729-DA8E0F4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3E4-37CB-4214-B976-BBC977A2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D9B7-655A-4FBE-8D16-7F80A32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41F8-28BC-40AF-80EB-6396839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F288-34B6-483B-AC5A-C989E10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D56-DC88-42CE-A80A-9AF7FCAA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BE4C-4C5C-4AF6-B659-A89D4A4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E72-67C3-4EDA-BE1B-D9FD02C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C9F-77E9-416B-9C75-3AB948E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BC6D-9004-48EA-A6B6-4CBB2447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229D-502B-444B-B410-2B824E09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013-8C87-4B56-9D03-CD9DFE5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A73-E031-4B6E-AFBF-75E8B75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257-6517-4AA9-AD54-B34F0682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915-A71C-4320-A9FE-463987A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66C-08C8-41F9-8A1D-7DBC4BC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D82-35C6-4034-9214-A83C3F4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873-22CF-4706-832E-702B0D5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BB30-D011-433F-954B-1939994EDB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8136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813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D822-47D1-48C3-B430-A66DE6305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25E3-B2C1-46AF-83E0-87C2CB88659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A80-DCD2-43A4-9171-85DB5645F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fn.org/index.cfm?pagename=brainBriefings_main" TargetMode="External"/><Relationship Id="rId2" Type="http://schemas.openxmlformats.org/officeDocument/2006/relationships/hyperlink" Target="http://www.zerobio.com/central/nervous_disorders.pd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neurons&amp;search_type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actionpotential.sw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neurotransmission.sw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neuroanatomy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units/addiction/drugs/mouse.cfm" TargetMode="External"/><Relationship Id="rId2" Type="http://schemas.openxmlformats.org/officeDocument/2006/relationships/hyperlink" Target="http://faculty.washington.edu/chudler/flash/ua/spiderwebs.html" TargetMode="External"/><Relationship Id="rId3" Type="http://schemas.openxmlformats.org/officeDocument/2006/relationships/hyperlink" Target="http://www.nsta.org/publications/interactive/nerves/teachers/caffeine_critters_pri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Nervous System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Biology 122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Holyoke Walsh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381560" cy="3066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6280" y="649116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brain.mcgill.ca/flash/index_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You Be the Doctor…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NS &amp; More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www.sfn.org/index.cfm?pagename=brainBriefings_mai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 complete above task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zerobio.com/central/nervous_disorders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631-E924-4D13-A739-B1CBFF9A80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C3A8-88A8-4EFF-8D35-ED23F24F40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9160" y="0"/>
            <a:ext cx="72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bs.org/newshour/bb/science/july-dec04/brain_10-13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42B-093B-4EBD-AECE-BF55C80CDC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FDCF7-B931-43D5-89AB-27265C4A0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00400" y="609480"/>
            <a:ext cx="24382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36232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236232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038480"/>
            <a:ext cx="1981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95280" y="4648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648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9A0-8A9D-4E8E-AFC4-111B9960A08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655F9-E4B0-4BD4-93CE-A179F9217C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Detailed Overvie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http://itc.gsw.edu/faculty/gfisk/anim/neuronparts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YouTube: “Neurons &amp; How They Work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www.youtube.com/results?search_query=neurons&amp;search_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0D5-15D9-4BC0-9FB4-34535F6C13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751C1-BC0D-4D84-BE78-ED27FFB103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Action Potential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actionpotential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youtube.com/watch?v=SCasruJT-D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21D-3F5F-42D9-816F-24D4B23E11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30AB0-7A16-4B2D-B1B7-4A09BD33C3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neurotransmission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724280"/>
            <a:ext cx="61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outube.com/watch?v=HXx9qlJetS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DB7-62DC-4DEE-B107-CD780655EE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96D97-C8F3-49A1-B56C-CFF43C466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neuroanatomy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54E-3A03-40CF-AD3C-60386486FD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67BD1-011B-4FC0-90BE-035D7451BB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Now..dissect a Sheep Br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See for yourself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933960" cy="38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30B-A88E-4600-BB8B-9AD772FC7B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99134-1C74-48BA-B877-9CE08EF0C8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S &amp; Dru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learn.genetics.utah.edu/units/addiction/drugs/mouse.c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Mice on Drugs…Check out Spider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aculty.washington.edu/chudler/flash/ua/spiderweb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ime for you to look for yourself!  Daphnia on DRUG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sta.org/publications/interactive/nerves/teachers/caffeine_critters_prin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30E-8E1B-44E4-9778-19ED1A477B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FFE1F-1538-4A69-9E02-39029D15A0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3:20:32Z</dcterms:created>
  <dc:creator>lisa.holyokewalsh</dc:creator>
  <dc:description/>
  <dc:language>en-US</dc:language>
  <cp:lastModifiedBy>nbdoe</cp:lastModifiedBy>
  <dcterms:modified xsi:type="dcterms:W3CDTF">2008-05-07T15:04:48Z</dcterms:modified>
  <cp:revision>13</cp:revision>
  <dc:subject/>
  <dc:title>Nervous System </dc:title>
</cp:coreProperties>
</file>